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7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wmf" ContentType="image/x-wmf"/>
  <Override PartName="/ppt/media/image11.png" ContentType="image/png"/>
  <Override PartName="/ppt/media/image29.png" ContentType="image/png"/>
  <Override PartName="/ppt/media/image26.png" ContentType="image/png"/>
  <Override PartName="/ppt/media/image3.gif" ContentType="image/gif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8AA2-B50E-4B89-A596-6D05952395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0th European Crystallographic Meeting – ECM 20 - Krak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037-F755-4E42-B98A-E04C342A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BD1-BE6F-43B0-B911-9E4625F8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48E-AAF6-49B5-BDAE-B168DA24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770-FE51-403F-8CA8-EB237FF2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282-CC1B-467C-A18A-91BA7B7E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A26-951C-4949-B190-303EBB2F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38A-C1DB-41D5-85EA-FDF7B125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036-D45C-4D2F-BD85-40669D29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4C1-9A3C-4F02-99CE-76F3259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703-F17E-41F5-9191-A176DD3E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9B5-DBE9-4795-BAF8-03B49718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AE4-EB98-4244-8EC1-B537FC79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76F1-7899-47C0-A6D1-DB7A7A4FE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tructure Determination by Powder Diffractometry : Distance Teaching and Distanc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240" y="4571640"/>
            <a:ext cx="6553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. Le B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iversité du Maine –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lb@cristal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ttp://www.cristal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_fini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411200" cy="4376880"/>
          </a:xfrm>
          <a:prstGeom prst="rect">
            <a:avLst/>
          </a:prstGeom>
          <a:ln w="0">
            <a:noFill/>
          </a:ln>
        </p:spPr>
      </p:pic>
      <p:pic>
        <p:nvPicPr>
          <p:cNvPr id="53" name="head1" descr=""/>
          <p:cNvPicPr/>
          <p:nvPr/>
        </p:nvPicPr>
        <p:blipFill>
          <a:blip r:embed="rId2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54" name="head2" descr=""/>
          <p:cNvPicPr/>
          <p:nvPr/>
        </p:nvPicPr>
        <p:blipFill>
          <a:blip r:embed="rId3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3880" y="1905120"/>
            <a:ext cx="7467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mplementing the SDPD Internet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tep 5 : Who will work and h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Studen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 « clients ») will have the hardest job : in spite of the tutor’s help, they are almost alone at work without imperative date for sending their solutions to the exerc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eache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tutors : clients are all over the world, emails will come anytime, anyday, especially during the week-ends or during university vacations. Are you prepared to that ?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If not, don’t do i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89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90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1905120"/>
            <a:ext cx="74674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ommunicating – Interacting : 100% 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mail essentially : instructions, questions, answers should be as fast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urse material either atttached to email or to be downloaded from a Web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rcise solutions attached to email (from the student to the teacher and from the teacher to the stud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Final examination also at distance : no contro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93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94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1905120"/>
            <a:ext cx="76201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tudent-student interaction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mmended for a synchronous course, but more difficult to achieve for an asynchronous cou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ies of interaction with the world of experts in the field : the SDPD mailing list (~300 subscribers), the Rietveld mailing list (~600 subscribers), and News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ies of direct interaction with software conceptors in case of problem (the teachers are not omnisci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97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98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905120"/>
            <a:ext cx="746784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he SDPD Internet Course after 2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rom where came the student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tential students were all over the world (the course is in English, a language that scientists cannot igno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 did not organized that course by following the French education model, nor the European model, if any, nor the American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 established a World model and consequently we got students from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01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02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3880" y="1905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05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06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07" name="World-1999-2000" descr=""/>
          <p:cNvPicPr/>
          <p:nvPr/>
        </p:nvPicPr>
        <p:blipFill>
          <a:blip r:embed="rId4"/>
          <a:stretch/>
        </p:blipFill>
        <p:spPr>
          <a:xfrm>
            <a:off x="1488960" y="1600200"/>
            <a:ext cx="76550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3880" y="1905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10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11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12" name="World-2000-2001" descr=""/>
          <p:cNvPicPr/>
          <p:nvPr/>
        </p:nvPicPr>
        <p:blipFill>
          <a:blip r:embed="rId4"/>
          <a:stretch/>
        </p:blipFill>
        <p:spPr>
          <a:xfrm>
            <a:off x="1488960" y="1676520"/>
            <a:ext cx="76550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3880" y="1905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15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16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09480" y="1449360"/>
          <a:ext cx="9021960" cy="525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1449360"/>
                    <a:ext cx="90219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1409760"/>
            <a:ext cx="739116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How the project was accepted by the University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Should not cost any money… But do what you want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ducation is almost free in France. Administration suggested registration fees should not be larger than 100 Euros (~100 US $). I wanted 250 to 1000 Euros. I w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ther fight was about how to pay the teachers. After one year functioning, I reported a mean number of 20 emails per student, needing ¼ hour for writing an answer : 5 hours of paid job per student. Underestimated, but accepted and better than nothing. No way to be paid for  the 1000 hours needed for the course build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23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24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14479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How does it look lik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27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28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29" name="look-1" descr=""/>
          <p:cNvPicPr/>
          <p:nvPr/>
        </p:nvPicPr>
        <p:blipFill>
          <a:blip r:embed="rId4"/>
          <a:stretch/>
        </p:blipFill>
        <p:spPr>
          <a:xfrm>
            <a:off x="2057400" y="2057400"/>
            <a:ext cx="6302520" cy="461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3760" y="2286000"/>
            <a:ext cx="43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http://sdpd.univ-lemans.fr/cours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1447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nformation about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33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34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35" name="look-2" descr=""/>
          <p:cNvPicPr/>
          <p:nvPr/>
        </p:nvPicPr>
        <p:blipFill>
          <a:blip r:embed="rId4"/>
          <a:stretch/>
        </p:blipFill>
        <p:spPr>
          <a:xfrm>
            <a:off x="1828800" y="2209680"/>
            <a:ext cx="6885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3880" y="1447920"/>
            <a:ext cx="739152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A few generaliti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ere is the knowledge ? An answer may be more and more : available online from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inuous education is a tool for remaining compet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iversities cannot always provide to students a broad exposure to experts in all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orkshops and Congress suppose expenses for travailing, housing and may be a spoken language problem – many people read english better than they can hear and speak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57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58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13716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ome student (favorable ;-) comme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38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39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40" name="look-3" descr=""/>
          <p:cNvPicPr/>
          <p:nvPr/>
        </p:nvPicPr>
        <p:blipFill>
          <a:blip r:embed="rId4"/>
          <a:stretch/>
        </p:blipFill>
        <p:spPr>
          <a:xfrm>
            <a:off x="1523880" y="2013120"/>
            <a:ext cx="716616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13716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ours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43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44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45" name="look-4" descr=""/>
          <p:cNvPicPr/>
          <p:nvPr/>
        </p:nvPicPr>
        <p:blipFill>
          <a:blip r:embed="rId4"/>
          <a:stretch/>
        </p:blipFill>
        <p:spPr>
          <a:xfrm>
            <a:off x="1981080" y="1905120"/>
            <a:ext cx="662148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1905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49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50" name="look-5" descr=""/>
          <p:cNvPicPr/>
          <p:nvPr/>
        </p:nvPicPr>
        <p:blipFill>
          <a:blip r:embed="rId4"/>
          <a:stretch/>
        </p:blipFill>
        <p:spPr>
          <a:xfrm>
            <a:off x="1676520" y="1447920"/>
            <a:ext cx="67086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1523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Much more in a downloadable pape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53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54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55" name="look-6" descr=""/>
          <p:cNvPicPr/>
          <p:nvPr/>
        </p:nvPicPr>
        <p:blipFill>
          <a:blip r:embed="rId4"/>
          <a:stretch/>
        </p:blipFill>
        <p:spPr>
          <a:xfrm>
            <a:off x="1447920" y="2362320"/>
            <a:ext cx="74991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1295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Once convinced, appl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58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59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60" name="look-7" descr=""/>
          <p:cNvPicPr/>
          <p:nvPr/>
        </p:nvPicPr>
        <p:blipFill>
          <a:blip r:embed="rId4"/>
          <a:stretch/>
        </p:blipFill>
        <p:spPr>
          <a:xfrm>
            <a:off x="1600200" y="1919160"/>
            <a:ext cx="72626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19320" y="1371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How does a session looks like ? First step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63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64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65" name="look-8" descr=""/>
          <p:cNvPicPr/>
          <p:nvPr/>
        </p:nvPicPr>
        <p:blipFill>
          <a:blip r:embed="rId4"/>
          <a:stretch/>
        </p:blipFill>
        <p:spPr>
          <a:xfrm>
            <a:off x="1981080" y="1951200"/>
            <a:ext cx="58006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1371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ome things to do before start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68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69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70" name="look-9" descr=""/>
          <p:cNvPicPr/>
          <p:nvPr/>
        </p:nvPicPr>
        <p:blipFill>
          <a:blip r:embed="rId4"/>
          <a:stretch/>
        </p:blipFill>
        <p:spPr>
          <a:xfrm>
            <a:off x="2133720" y="2006640"/>
            <a:ext cx="54338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71600" y="1371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ome recommended book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73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74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75" name="look-10" descr=""/>
          <p:cNvPicPr/>
          <p:nvPr/>
        </p:nvPicPr>
        <p:blipFill>
          <a:blip r:embed="rId4"/>
          <a:stretch/>
        </p:blipFill>
        <p:spPr>
          <a:xfrm>
            <a:off x="2362320" y="2052720"/>
            <a:ext cx="47149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66680" y="13716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Now read deeply these chapters, tutorial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78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79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80" name="look-11" descr=""/>
          <p:cNvPicPr/>
          <p:nvPr/>
        </p:nvPicPr>
        <p:blipFill>
          <a:blip r:embed="rId4"/>
          <a:stretch/>
        </p:blipFill>
        <p:spPr>
          <a:xfrm>
            <a:off x="1905120" y="1981080"/>
            <a:ext cx="62323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3880" y="1905120"/>
            <a:ext cx="228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ownload and play with a few softwar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83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84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85" name="look-12" descr=""/>
          <p:cNvPicPr/>
          <p:nvPr/>
        </p:nvPicPr>
        <p:blipFill>
          <a:blip r:embed="rId4"/>
          <a:stretch/>
        </p:blipFill>
        <p:spPr>
          <a:xfrm>
            <a:off x="4038480" y="1447920"/>
            <a:ext cx="4488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1447920"/>
            <a:ext cx="73915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SDPD = Structure Determination by Powder Diffractome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Less than 100 structures determined per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re than 2000 people have followed a workshop or a satellite congress on that subject during the past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y so few publications ? SDPD is difficul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number of people really interested in SDPD is close to 300 which is the number of subscribers to the SDPD mailing list :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ttp://www.cristal.org/sdp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61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3880" y="1905120"/>
            <a:ext cx="2057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fter having played with examples, finally, solve these exercises, ple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188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189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  <p:pic>
        <p:nvPicPr>
          <p:cNvPr id="190" name="look-13" descr=""/>
          <p:cNvPicPr/>
          <p:nvPr/>
        </p:nvPicPr>
        <p:blipFill>
          <a:blip r:embed="rId4"/>
          <a:stretch/>
        </p:blipFill>
        <p:spPr>
          <a:xfrm>
            <a:off x="3886200" y="1515960"/>
            <a:ext cx="482616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23880" y="1905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session1" descr=""/>
          <p:cNvPicPr/>
          <p:nvPr/>
        </p:nvPicPr>
        <p:blipFill>
          <a:blip r:embed="rId1"/>
          <a:stretch/>
        </p:blipFill>
        <p:spPr>
          <a:xfrm>
            <a:off x="0" y="0"/>
            <a:ext cx="91882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session2" descr=""/>
          <p:cNvPicPr/>
          <p:nvPr/>
        </p:nvPicPr>
        <p:blipFill>
          <a:blip r:embed="rId1"/>
          <a:stretch/>
        </p:blipFill>
        <p:spPr>
          <a:xfrm>
            <a:off x="0" y="0"/>
            <a:ext cx="90694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session3" descr=""/>
          <p:cNvPicPr/>
          <p:nvPr/>
        </p:nvPicPr>
        <p:blipFill>
          <a:blip r:embed="rId1"/>
          <a:stretch/>
        </p:blipFill>
        <p:spPr>
          <a:xfrm>
            <a:off x="0" y="0"/>
            <a:ext cx="90694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session4" descr=""/>
          <p:cNvPicPr/>
          <p:nvPr/>
        </p:nvPicPr>
        <p:blipFill>
          <a:blip r:embed="rId1"/>
          <a:stretch/>
        </p:blipFill>
        <p:spPr>
          <a:xfrm>
            <a:off x="0" y="0"/>
            <a:ext cx="90694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session5" descr=""/>
          <p:cNvPicPr/>
          <p:nvPr/>
        </p:nvPicPr>
        <p:blipFill>
          <a:blip r:embed="rId1"/>
          <a:stretch/>
        </p:blipFill>
        <p:spPr>
          <a:xfrm>
            <a:off x="74520" y="0"/>
            <a:ext cx="90694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session6" descr=""/>
          <p:cNvPicPr/>
          <p:nvPr/>
        </p:nvPicPr>
        <p:blipFill>
          <a:blip r:embed="rId1"/>
          <a:stretch/>
        </p:blipFill>
        <p:spPr>
          <a:xfrm>
            <a:off x="74520" y="0"/>
            <a:ext cx="90694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session7" descr=""/>
          <p:cNvPicPr/>
          <p:nvPr/>
        </p:nvPicPr>
        <p:blipFill>
          <a:blip r:embed="rId1"/>
          <a:stretch/>
        </p:blipFill>
        <p:spPr>
          <a:xfrm>
            <a:off x="74520" y="0"/>
            <a:ext cx="90694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session8" descr=""/>
          <p:cNvPicPr/>
          <p:nvPr/>
        </p:nvPicPr>
        <p:blipFill>
          <a:blip r:embed="rId1"/>
          <a:stretch/>
        </p:blipFill>
        <p:spPr>
          <a:xfrm>
            <a:off x="74520" y="0"/>
            <a:ext cx="90694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session9" descr=""/>
          <p:cNvPicPr/>
          <p:nvPr/>
        </p:nvPicPr>
        <p:blipFill>
          <a:blip r:embed="rId1"/>
          <a:stretch/>
        </p:blipFill>
        <p:spPr>
          <a:xfrm>
            <a:off x="74520" y="0"/>
            <a:ext cx="90694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3880" y="1447920"/>
            <a:ext cx="739152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SDPD Internet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reated : September 1999 - 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We had experts in both SDPD and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Our university and town are too small for trying to organize workshops or Congress. We can only expect to interest fans of racing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The student number is decreasing in science, we have to tak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your students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in order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his is wh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session10" descr=""/>
          <p:cNvPicPr/>
          <p:nvPr/>
        </p:nvPicPr>
        <p:blipFill>
          <a:blip r:embed="rId1"/>
          <a:stretch/>
        </p:blipFill>
        <p:spPr>
          <a:xfrm>
            <a:off x="0" y="0"/>
            <a:ext cx="90694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3880" y="1523880"/>
            <a:ext cx="762012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ny future for SDPD distance learnin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ert systems could kill the interest of deep learni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losion of software diversity, a teacher nightma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 this intense activity around SDPD will continue if the number of determined structures keep smal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if commercial software dominat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at can be done with that diploma, anyw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999-2000 : 12 students </a:t>
            </a:r>
            <a:r>
              <a:rPr b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2000-2001 : 7 students </a:t>
            </a:r>
            <a:r>
              <a:rPr b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2001-2002 ??? May be less because you know how difficult it is to become a laureate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204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205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3880" y="2666880"/>
            <a:ext cx="762012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cc"/>
                </a:solidFill>
                <a:latin typeface="Times New Roman"/>
              </a:rPr>
              <a:t>http://sdpd.univ-lemans.fr/course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cc"/>
                </a:solidFill>
                <a:latin typeface="Times New Roman"/>
              </a:rPr>
              <a:t>http://www.cristal.org/course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208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209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3880" y="1600200"/>
            <a:ext cx="76201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istance Learning (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t new ( &gt; 100 years), costs more than traditional learning (instructor time, equipment, upgrade, technical staff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tfalls of DL are known : avoiding them (low-paid, low-level tutors, bad help, hiding the difficulty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net changes DL a lot. The previously slow teacher-learner interaction becomes fast and unlimited in volu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amining the crystallography DL market in 1996-98 : the PPS at Birkbeck College - London. This was our inspiration, using the Université du Maine SDPD well known and highly visited free tutorial (1995) as a basis for our own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3880" y="1676520"/>
            <a:ext cx="76201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mplementing the SDPD Internet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ep one : Synchronous or asynchronou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synchronous, 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 the PhD level, going at his own speed is more attr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inconvenience is : no limit in time for finishing the course. Some students will need 2 years instead of 3 months, and will have time for finding reasons to give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73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74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1676520"/>
            <a:ext cx="762012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mplementing the SDPD Internet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tep 2 : What conten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 PhD-level students. Therefore, more than a basic minimal knowledge is required in crystallograp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luency with Internet and the PC world is also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estimated necessary content was cut sequentially into 10 sessions. For each of them : introductory text, references, exercises with solution, exercises without solution (continuous control), in HTML. No online multimedia. Students will play with software at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77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78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676520"/>
            <a:ext cx="762012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mplementing the SDPD Internet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tep 3 : Deciding the co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uld be relatively small because the course is based on software free for the Academic world (almost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 levels of fees : professionnals (1000 Euros), PhD or Post-doc (500 Euros), and students in developing countries (250 Euros ~230 US$). Similar to the Birkbeck College cou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81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82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1676520"/>
            <a:ext cx="76201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mplementing the SDPD Internet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tep 4 : Finding students (« clients 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dvertisements on the Internet at mailing lists, Newgroup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nounces relayed by the IUCr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ousands of personnal Emails (= spamming… we apologiz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esult : 12 students the firs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head1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1325520"/>
          </a:xfrm>
          <a:prstGeom prst="rect">
            <a:avLst/>
          </a:prstGeom>
          <a:ln w="0">
            <a:noFill/>
          </a:ln>
        </p:spPr>
      </p:pic>
      <p:pic>
        <p:nvPicPr>
          <p:cNvPr id="85" name="head2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325520"/>
          </a:xfrm>
          <a:prstGeom prst="rect">
            <a:avLst/>
          </a:prstGeom>
          <a:ln w="0">
            <a:noFill/>
          </a:ln>
        </p:spPr>
      </p:pic>
      <p:pic>
        <p:nvPicPr>
          <p:cNvPr id="86" name="logo_fini" descr=""/>
          <p:cNvPicPr/>
          <p:nvPr/>
        </p:nvPicPr>
        <p:blipFill>
          <a:blip r:embed="rId3"/>
          <a:stretch/>
        </p:blipFill>
        <p:spPr>
          <a:xfrm>
            <a:off x="0" y="-81000"/>
            <a:ext cx="1371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6:07:24Z</dcterms:created>
  <dc:creator>Armel Le Bail</dc:creator>
  <dc:description/>
  <dc:language>en-US</dc:language>
  <cp:lastModifiedBy>Armel Le Bail</cp:lastModifiedBy>
  <dcterms:modified xsi:type="dcterms:W3CDTF">2001-08-30T21:31:12Z</dcterms:modified>
  <cp:revision>96</cp:revision>
  <dc:subject/>
  <dc:title>Structure Determination by Powder Diffractometry : Distance Teaching and Distance learning</dc:title>
</cp:coreProperties>
</file>